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6.pct" ContentType="image/x-pict"/>
  <Override PartName="/ppt/media/image7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01F5D-F940-477E-86C6-8CA8588BE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3E648-1E11-4FA0-B39C-190C167B9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07446-C5FE-4D66-B834-629E1ACDE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9A5E6-B60B-43BA-B8CA-C60751E09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89439-80C3-46F6-83EC-580C61A8E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E4F86-B4F6-4AB8-9A40-9A838D2DF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2A04E-FCBC-493E-B171-39509D034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8653A-A42C-4719-B1D5-D72955E06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4D87E-2E38-42C6-BB8F-8F54806D2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B0BF6-51F5-413E-A80D-A9704A92F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E4692-01D1-4894-92AA-218BF92AD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9377A-FCEA-465E-8D7A-CDD290740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A5DA9-D046-404A-87C1-87CA8A7304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9810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80880" y="685800"/>
            <a:ext cx="876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xtile"/>
              </a:rPr>
              <a:t>Chapter 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457200"/>
            <a:ext cx="8305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981080" y="1219320"/>
            <a:ext cx="5257800" cy="44193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609480" y="5791320"/>
            <a:ext cx="769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xtile"/>
              </a:rPr>
              <a:t>Managing Stress in Your Lif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04920" y="304920"/>
            <a:ext cx="8534160" cy="53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echno"/>
              </a:rPr>
              <a:t>Time Management Skills:  </a:t>
            </a:r>
            <a:r>
              <a:rPr b="0" lang="en-US" sz="3600" spc="-1" strike="noStrike">
                <a:solidFill>
                  <a:srgbClr val="800080"/>
                </a:solidFill>
                <a:latin typeface="Techno"/>
              </a:rPr>
              <a:t>specific strategies for planning and using time in effective, healthful way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echno"/>
              </a:rPr>
              <a:t>Priorities:  </a:t>
            </a:r>
            <a:r>
              <a:rPr b="0" lang="en-US" sz="3600" spc="-1" strike="noStrike">
                <a:solidFill>
                  <a:srgbClr val="0000ff"/>
                </a:solidFill>
                <a:latin typeface="Techno"/>
              </a:rPr>
              <a:t>goals, tasks, or activities that you judge as more important to do than oth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380880" y="4419720"/>
            <a:ext cx="3048120" cy="20574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648320" y="4419720"/>
            <a:ext cx="327636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304920" y="304920"/>
            <a:ext cx="8534160" cy="102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8000"/>
                </a:solidFill>
                <a:latin typeface="Times New Roman"/>
              </a:rPr>
              <a:t>Grief Reac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 an individuals total response to a major lo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Textile"/>
              </a:rPr>
              <a:t>Five Stages of Los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Stone Sans ITC TT-Bold"/>
              </a:rPr>
              <a:t>Stage 1:</a:t>
            </a:r>
            <a:r>
              <a:rPr b="0" lang="en-US" sz="2400" spc="-1" strike="noStrike">
                <a:solidFill>
                  <a:srgbClr val="000000"/>
                </a:solidFill>
                <a:latin typeface="Stone Sans ITC TT-Bold"/>
              </a:rPr>
              <a:t>  </a:t>
            </a:r>
            <a:r>
              <a:rPr b="0" lang="en-US" sz="2400" spc="-1" strike="noStrike">
                <a:solidFill>
                  <a:srgbClr val="800080"/>
                </a:solidFill>
                <a:latin typeface="Stone Sans ITC TT-Bold"/>
              </a:rPr>
              <a:t>Denial:</a:t>
            </a:r>
            <a:r>
              <a:rPr b="0" lang="en-US" sz="2400" spc="-1" strike="noStrike">
                <a:solidFill>
                  <a:srgbClr val="000000"/>
                </a:solidFill>
                <a:latin typeface="Stone Sans ITC TT-Bold"/>
              </a:rPr>
              <a:t>  the person cannot believe that the loss has happen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Stone Sans ITC TT-Bold"/>
              </a:rPr>
              <a:t>Stage 2</a:t>
            </a:r>
            <a:r>
              <a:rPr b="0" lang="en-US" sz="2400" spc="-1" strike="noStrike">
                <a:solidFill>
                  <a:srgbClr val="000000"/>
                </a:solidFill>
                <a:latin typeface="Stone Sans ITC TT-Bold"/>
              </a:rPr>
              <a:t>:  </a:t>
            </a:r>
            <a:r>
              <a:rPr b="0" lang="en-US" sz="2400" spc="-1" strike="noStrike">
                <a:solidFill>
                  <a:srgbClr val="800080"/>
                </a:solidFill>
                <a:latin typeface="Stone Sans ITC TT-Bold"/>
              </a:rPr>
              <a:t>Anger:</a:t>
            </a:r>
            <a:r>
              <a:rPr b="0" lang="en-US" sz="2400" spc="-1" strike="noStrike">
                <a:solidFill>
                  <a:srgbClr val="000000"/>
                </a:solidFill>
                <a:latin typeface="Stone Sans ITC TT-Bold"/>
              </a:rPr>
              <a:t> the person becomes frustrated with the “new” situation and may become critical or uncooper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Stone Sans ITC TT-Bold"/>
              </a:rPr>
              <a:t>State 3:</a:t>
            </a:r>
            <a:r>
              <a:rPr b="0" lang="en-US" sz="2400" spc="-1" strike="noStrike">
                <a:solidFill>
                  <a:srgbClr val="000000"/>
                </a:solidFill>
                <a:latin typeface="Stone Sans ITC TT-Bold"/>
              </a:rPr>
              <a:t>  </a:t>
            </a:r>
            <a:r>
              <a:rPr b="0" lang="en-US" sz="2400" spc="-1" strike="noStrike">
                <a:solidFill>
                  <a:srgbClr val="800080"/>
                </a:solidFill>
                <a:latin typeface="Stone Sans ITC TT-Bold"/>
              </a:rPr>
              <a:t>Bargaining;</a:t>
            </a:r>
            <a:r>
              <a:rPr b="0" lang="en-US" sz="2400" spc="-1" strike="noStrike">
                <a:solidFill>
                  <a:srgbClr val="000000"/>
                </a:solidFill>
                <a:latin typeface="Stone Sans ITC TT-Bold"/>
              </a:rPr>
              <a:t>  the person may promise to change if the lost person or object can be returned, even for a short wh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Stone Sans ITC TT-Bold"/>
              </a:rPr>
              <a:t>Stage 4:</a:t>
            </a:r>
            <a:r>
              <a:rPr b="0" lang="en-US" sz="2400" spc="-1" strike="noStrike">
                <a:solidFill>
                  <a:srgbClr val="000000"/>
                </a:solidFill>
                <a:latin typeface="Stone Sans ITC TT-Bold"/>
              </a:rPr>
              <a:t>  </a:t>
            </a:r>
            <a:r>
              <a:rPr b="0" lang="en-US" sz="2400" spc="-1" strike="noStrike">
                <a:solidFill>
                  <a:srgbClr val="800080"/>
                </a:solidFill>
                <a:latin typeface="Stone Sans ITC TT-Bold"/>
              </a:rPr>
              <a:t>Depression:</a:t>
            </a:r>
            <a:r>
              <a:rPr b="0" lang="en-US" sz="2400" spc="-1" strike="noStrike">
                <a:solidFill>
                  <a:srgbClr val="000000"/>
                </a:solidFill>
                <a:latin typeface="Stone Sans ITC TT-Bold"/>
              </a:rPr>
              <a:t>  silence and withdrawal. A deep sense of sadness usually comes with this stage.  Some may require professional help to come out of this st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Stone Sans ITC TT-Bold"/>
              </a:rPr>
              <a:t>Stage 5:</a:t>
            </a:r>
            <a:r>
              <a:rPr b="0" lang="en-US" sz="2400" spc="-1" strike="noStrike">
                <a:solidFill>
                  <a:srgbClr val="000000"/>
                </a:solidFill>
                <a:latin typeface="Stone Sans ITC TT-Bold"/>
              </a:rPr>
              <a:t>   </a:t>
            </a:r>
            <a:r>
              <a:rPr b="0" lang="en-US" sz="2400" spc="-1" strike="noStrike">
                <a:solidFill>
                  <a:srgbClr val="800080"/>
                </a:solidFill>
                <a:latin typeface="Stone Sans ITC TT-Bold"/>
              </a:rPr>
              <a:t>Acceptance:</a:t>
            </a:r>
            <a:r>
              <a:rPr b="0" lang="en-US" sz="2400" spc="-1" strike="noStrike">
                <a:solidFill>
                  <a:srgbClr val="000000"/>
                </a:solidFill>
                <a:latin typeface="Stone Sans ITC TT-Bold"/>
              </a:rPr>
              <a:t>  A new sense of “power” may overcome the person and they may be able to face reality in constructive way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Stone Sans ITC TT-Bold"/>
              </a:rPr>
              <a:t>HOPE:</a:t>
            </a:r>
            <a:r>
              <a:rPr b="0" lang="en-US" sz="3200" spc="-1" strike="noStrike">
                <a:solidFill>
                  <a:srgbClr val="000000"/>
                </a:solidFill>
                <a:latin typeface="Stone Sans ITC TT-Bold"/>
              </a:rPr>
              <a:t>  </a:t>
            </a:r>
            <a:r>
              <a:rPr b="0" lang="en-US" sz="3200" spc="-1" strike="noStrike">
                <a:solidFill>
                  <a:srgbClr val="333399"/>
                </a:solidFill>
                <a:latin typeface="Stone Sans ITC TT-Bold"/>
              </a:rPr>
              <a:t>A common emotion that usually operates through all five stages of lo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8534520" cy="239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extile"/>
              </a:rPr>
              <a:t>3 Stages of the stress respon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1. Alarm:  when the body and mind go on high aler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286000" y="3200400"/>
            <a:ext cx="4137120" cy="40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8763120" cy="65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99cc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cc00"/>
                </a:solidFill>
                <a:latin typeface="Times New Roman"/>
              </a:rPr>
              <a:t>Fact:  Stress is a part of everyday life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tress:  the body and minds reactions to everyday dema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Kinds of stress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istres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 negative str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:  too much homework, death, not knowing how to handle the stress of daily lif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ustress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positive str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:  studying, practic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80880" y="457200"/>
            <a:ext cx="7772400" cy="9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Bodily Changes that take place during “Alarm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ff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Hypothalamus(nerve center in brain) triggers the pituitary g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ff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Pituitary gland triggers the adrenal gla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ff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Adrenal glands secrete adrenaline(emergency hormon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ff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Adrenaline causes the following changes in the bo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- pupils dil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- mouth dries 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- heart speeds up pumping more blo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- lungs increase breathing r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- throat constri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- liver and kidneys constri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- skin starts to swe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- digestive organs slow dow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0"/>
            <a:ext cx="883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853452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extile"/>
              </a:rPr>
              <a:t>2. Resistance:  when the body/mind try to repair the damage they may have received and return to norm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Textile"/>
              </a:rPr>
              <a:t>3. Fatigue:  a tired feeling which lowers one’s level of activ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743200" y="3733920"/>
            <a:ext cx="307512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228600"/>
            <a:ext cx="8915400" cy="81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3 types of fatigu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buClr>
                <a:srgbClr val="009999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Times New Roman"/>
              </a:rPr>
              <a:t>Physical fatigue:</a:t>
            </a:r>
            <a:r>
              <a:rPr b="0" lang="en-US" sz="3200" spc="-1" strike="noStrike">
                <a:solidFill>
                  <a:srgbClr val="ff8000"/>
                </a:solidFill>
                <a:latin typeface="Times New Roman"/>
              </a:rPr>
              <a:t>  caused by overworking the body resulting in a build up of lactic acid in the muscles and carbon dioxide in the cells    </a:t>
            </a:r>
            <a:r>
              <a:rPr b="1" lang="en-US" sz="3200" spc="-1" strike="noStrike">
                <a:solidFill>
                  <a:srgbClr val="ff8000"/>
                </a:solidFill>
                <a:latin typeface="Times New Roman"/>
              </a:rPr>
              <a:t>remedy:</a:t>
            </a:r>
            <a:r>
              <a:rPr b="0" lang="en-US" sz="3200" spc="-1" strike="noStrike">
                <a:solidFill>
                  <a:srgbClr val="ff8000"/>
                </a:solidFill>
                <a:latin typeface="Times New Roman"/>
              </a:rPr>
              <a:t> rest or sle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buClr>
                <a:srgbClr val="009999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Times New Roman"/>
              </a:rPr>
              <a:t>Psychological Fatigue</a:t>
            </a:r>
            <a:r>
              <a:rPr b="1" lang="en-US" sz="3200" spc="-1" strike="noStrike">
                <a:solidFill>
                  <a:srgbClr val="ff8000"/>
                </a:solidFill>
                <a:latin typeface="Times New Roman"/>
              </a:rPr>
              <a:t>:</a:t>
            </a:r>
            <a:r>
              <a:rPr b="0" lang="en-US" sz="3200" spc="-1" strike="noStrike">
                <a:solidFill>
                  <a:srgbClr val="ff8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MOST COMMON TYPE OF FATIGUE</a:t>
            </a:r>
            <a:r>
              <a:rPr b="0" lang="en-US" sz="3200" spc="-1" strike="noStrike">
                <a:solidFill>
                  <a:srgbClr val="ff8000"/>
                </a:solidFill>
                <a:latin typeface="Times New Roman"/>
              </a:rPr>
              <a:t>  caused by worrying, overwork, depression, boredom.  </a:t>
            </a:r>
            <a:r>
              <a:rPr b="1" lang="en-US" sz="3200" spc="-1" strike="noStrike">
                <a:solidFill>
                  <a:srgbClr val="ff8000"/>
                </a:solidFill>
                <a:latin typeface="Times New Roman"/>
              </a:rPr>
              <a:t>Remedy</a:t>
            </a:r>
            <a:r>
              <a:rPr b="0" lang="en-US" sz="3200" spc="-1" strike="noStrike">
                <a:solidFill>
                  <a:srgbClr val="ff8000"/>
                </a:solidFill>
                <a:latin typeface="Times New Roman"/>
              </a:rPr>
              <a:t>:  planning, organization, activity, hobb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buClr>
                <a:srgbClr val="ff8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buClr>
                <a:srgbClr val="009999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Times New Roman"/>
              </a:rPr>
              <a:t>Pathological Fatigue:</a:t>
            </a:r>
            <a:r>
              <a:rPr b="0" lang="en-US" sz="3200" spc="-1" strike="noStrike">
                <a:solidFill>
                  <a:srgbClr val="ff8000"/>
                </a:solidFill>
                <a:latin typeface="Times New Roman"/>
              </a:rPr>
              <a:t> overworking the body’s immune system resulting in anemia, the flu, being overweight, or dise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04920" y="59364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0"/>
            <a:ext cx="8839080" cy="79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Stress tolerance:  the amount of stress you can handle before you reach too much stre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Personality types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Times New Roman"/>
              </a:rPr>
              <a:t>Personality type A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competitive, high achieving, time orien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e A personality is more likely to develop heart disease or other significant health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Times New Roman"/>
              </a:rPr>
              <a:t>Personality type B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n- competitive, laid back, procrastina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Hardy personality:  a personality type that is able to stay healthy despite major or even traumatic stress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0"/>
            <a:ext cx="8610480" cy="11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extile"/>
              </a:rPr>
              <a:t>Physical Problems related to Stre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echno"/>
              </a:rPr>
              <a:t>High Blood Pressur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echno"/>
              </a:rPr>
              <a:t>Headach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304920" y="1981080"/>
            <a:ext cx="2438280" cy="27432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3578400" y="1981080"/>
            <a:ext cx="3813120" cy="2590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380880" y="4876920"/>
            <a:ext cx="800100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echno"/>
              </a:rPr>
              <a:t>Asthm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 when the air carrying tubes of the lungs constri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echno"/>
              </a:rPr>
              <a:t>Compromised Immune Response</a:t>
            </a:r>
            <a:r>
              <a:rPr b="0" lang="en-US" sz="2400" spc="-1" strike="noStrike">
                <a:solidFill>
                  <a:srgbClr val="000000"/>
                </a:solidFill>
                <a:latin typeface="Techno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you cannot fight disease as well and you are more likely to suffer from colds, the flu, infections, and possibly canc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echno"/>
              </a:rPr>
              <a:t>Psychosomatic Respon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 physical disorders resulting from stress rather than injury or illness (skin disorders, sleep disorders, stomachaches, and digestive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04920" y="304920"/>
            <a:ext cx="8305560" cy="1119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ff"/>
                </a:solidFill>
                <a:uFillTx/>
                <a:latin typeface="Textile"/>
              </a:rPr>
              <a:t>STRESS MANAG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extile"/>
              </a:rPr>
              <a:t>Identify the Probl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8000"/>
                </a:solidFill>
                <a:latin typeface="Textile"/>
              </a:rPr>
              <a:t>(know what is causing the stres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 u="sng">
                <a:solidFill>
                  <a:srgbClr val="333399"/>
                </a:solidFill>
                <a:uFillTx/>
                <a:latin typeface="Times New Roman"/>
              </a:rPr>
              <a:t>Ways to handle Str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80"/>
                </a:solidFill>
                <a:latin typeface="Times New Roman"/>
              </a:rPr>
              <a:t>Physical activi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80"/>
                </a:solidFill>
                <a:latin typeface="Times New Roman"/>
              </a:rPr>
              <a:t>Plan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80"/>
                </a:solidFill>
                <a:latin typeface="Times New Roman"/>
              </a:rPr>
              <a:t>Rechanneling energ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80"/>
                </a:solidFill>
                <a:latin typeface="Times New Roman"/>
              </a:rPr>
              <a:t>Relax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80"/>
                </a:solidFill>
                <a:latin typeface="Times New Roman"/>
              </a:rPr>
              <a:t>Laugh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80"/>
                </a:solidFill>
                <a:latin typeface="Times New Roman"/>
              </a:rPr>
              <a:t>*Support Group-group of people with similar problems to share experienc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9T22:58:48Z</dcterms:created>
  <dc:creator>Chatham County Schools</dc:creator>
  <dc:description/>
  <dc:language>en-US</dc:language>
  <cp:lastModifiedBy>Chatham County Schools</cp:lastModifiedBy>
  <dcterms:modified xsi:type="dcterms:W3CDTF">2006-01-29T23:41:31Z</dcterms:modified>
  <cp:revision>16</cp:revision>
  <dc:subject/>
  <dc:title>PowerPoint Presentation</dc:title>
</cp:coreProperties>
</file>